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gif" ContentType="image/gi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DC3-E513-4346-8AE6-8AD2A205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920-4E66-40A8-B08A-17F7080B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7DE-33F5-412A-A3C5-4B8A81A3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809-DA18-488C-A242-4D86F3F4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4028-02B3-4C35-9140-2F9C2E38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A180-0825-4917-8ADA-AF54001C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8C1E-EF76-4880-86B6-F4C220E5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3915-0847-40A7-BF0A-9AE91032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52AE-5497-41D2-A832-39F40ECA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C646-9766-4267-880E-FCAD2DCD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2AAA-D4A9-4865-98EA-84C94D31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BB0-1EAF-4262-A3CB-DB6B8702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F9FC-52DE-4381-94A7-B363C8A2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DB1A-1D73-41EC-9D95-CFB963FA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F4D2-9F90-41FD-BCB8-9FFF1540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9E36-8C5B-466B-B8E9-D9A78B3F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D2A6-C032-4911-B638-23E7FF59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4B4-AB3D-4C02-B590-30E2D30D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8DC-D7B6-4F67-AAD0-2A33988B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D23-A40D-4C95-B42C-8501F2E9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415-C2D3-4F7D-82EF-5353909D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AC0-F8FC-4EF0-AE11-30A6A6A7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529-B3EC-4ABF-8D43-4B162632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7E3-684E-4F5B-BCB8-19F39016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336699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99F2-7AF4-45BA-88B2-F9476A788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336699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E31C-4C80-4875-B455-8C75C4E44C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cccc"/>
                </a:solidFill>
                <a:latin typeface="Times New Roman"/>
              </a:rPr>
              <a:t>How a Bill Becomes a Law</a:t>
            </a:r>
            <a:endParaRPr b="0" lang="en-US" sz="6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re are two things you shouldn’t see being made:  sausages and laws.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bill3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791320" y="25146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3429000"/>
            <a:ext cx="1371600" cy="914400"/>
          </a:xfrm>
          <a:prstGeom prst="rightArrow">
            <a:avLst>
              <a:gd name="adj1" fmla="val 50000"/>
              <a:gd name="adj2" fmla="val 37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057400"/>
            <a:ext cx="2819520" cy="160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324480" y="1218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4572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es back to committee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3733920"/>
            <a:ext cx="2819520" cy="160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41148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981080"/>
            <a:ext cx="2819160" cy="426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21337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ull hous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4480" y="530388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ass a bill a mere majority is requ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4290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debate and vote on amend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rot="15427800">
            <a:off x="5142960" y="5524560"/>
            <a:ext cx="838440" cy="761760"/>
          </a:xfrm>
          <a:custGeom>
            <a:avLst/>
            <a:gdLst>
              <a:gd name="textAreaLeft" fmla="*/ 279000 w 838440"/>
              <a:gd name="textAreaRight" fmla="*/ 703080 w 838440"/>
              <a:gd name="textAreaTop" fmla="*/ 452160 h 761760"/>
              <a:gd name="textAreaBottom" fmla="*/ 6393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94"/>
                </a:moveTo>
                <a:lnTo>
                  <a:pt x="12817" y="16294"/>
                </a:lnTo>
                <a:lnTo>
                  <a:pt x="12817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123" y="7200"/>
                </a:lnTo>
                <a:lnTo>
                  <a:pt x="18123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54864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190512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version of b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BS00979_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1641600" cy="175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791320" y="25146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2057400"/>
            <a:ext cx="2819520" cy="160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733920"/>
            <a:ext cx="2819520" cy="160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1148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22860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cc"/>
                </a:solidFill>
                <a:latin typeface="Times New Roman"/>
              </a:rPr>
              <a:t>They </a:t>
            </a:r>
            <a:r>
              <a:rPr b="0" lang="en-US" sz="5400" spc="-1" strike="noStrike" u="sng">
                <a:solidFill>
                  <a:srgbClr val="33cccc"/>
                </a:solidFill>
                <a:uFillTx/>
                <a:latin typeface="Times New Roman"/>
              </a:rPr>
              <a:t>too</a:t>
            </a:r>
            <a:r>
              <a:rPr b="0" lang="en-US" sz="5400" spc="-1" strike="noStrike">
                <a:solidFill>
                  <a:srgbClr val="33cccc"/>
                </a:solidFill>
                <a:latin typeface="Times New Roman"/>
              </a:rPr>
              <a:t> must pass it for it to become a law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038480"/>
            <a:ext cx="3504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es to other house for its consider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rot="15427800">
            <a:off x="5142960" y="5524560"/>
            <a:ext cx="838440" cy="761760"/>
          </a:xfrm>
          <a:custGeom>
            <a:avLst/>
            <a:gdLst>
              <a:gd name="textAreaLeft" fmla="*/ 279000 w 838440"/>
              <a:gd name="textAreaRight" fmla="*/ 703080 w 838440"/>
              <a:gd name="textAreaTop" fmla="*/ 452160 h 761760"/>
              <a:gd name="textAreaBottom" fmla="*/ 6393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94"/>
                </a:moveTo>
                <a:lnTo>
                  <a:pt x="12817" y="16294"/>
                </a:lnTo>
                <a:lnTo>
                  <a:pt x="12817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123" y="7200"/>
                </a:lnTo>
                <a:lnTo>
                  <a:pt x="18123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54864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j0286761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2133720" cy="203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hat are some of the things people do in all this?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6934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rst of all, each house has leadership positions to guide legisl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nce there are so many members of Congress and so much needs to get don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se people are very powerful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j0090563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2590560" cy="189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ho are they?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Hou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peak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ity Lead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ority Lead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ity Whi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ority Whi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191120" y="2438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nnis Hastert (R-Il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m DeLay (R-Tx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ncy Pelosi (D-C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y Blunt (R-M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ny Hoyer (D-M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ho are they?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en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 Pro Tem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ity Lead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ority Lead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91120" y="2438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ck Cheney (V.P.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d Stevens (R-Ak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ll Frist (R-T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m Daschle (D-S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Debate in the House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ctated by the Speaker and the Rules Committe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cedures for debate and amendments is much more strict and limited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j0174359" descr=""/>
          <p:cNvPicPr/>
          <p:nvPr/>
        </p:nvPicPr>
        <p:blipFill>
          <a:blip r:embed="rId1"/>
          <a:stretch/>
        </p:blipFill>
        <p:spPr>
          <a:xfrm>
            <a:off x="6019920" y="2362320"/>
            <a:ext cx="2895480" cy="279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Debate in the Senate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enate is considered “the most deliberative body in the world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means they feel that if a law is to be as good as it must be, then all the talking about it should be allowed, without limit,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befor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t is considered for a vote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Debate in the Senate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 a clever Senator might do, then, if he doesn’t like a bill and knows he is in the minorit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He can filibuster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j0124649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689200" cy="255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If the bill passes </a:t>
            </a:r>
            <a:r>
              <a:rPr b="0" lang="en-US" sz="4400" spc="-1" strike="noStrike" u="sng">
                <a:solidFill>
                  <a:srgbClr val="33cccc"/>
                </a:solidFill>
                <a:uFillTx/>
                <a:latin typeface="Times New Roman"/>
              </a:rPr>
              <a:t>both</a:t>
            </a: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 houses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657240" y="20574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n it goes to the president’s desk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re,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fou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things can happen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BS00823_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505320" cy="2986200"/>
          </a:xfrm>
          <a:prstGeom prst="rect">
            <a:avLst/>
          </a:prstGeom>
          <a:ln w="0">
            <a:noFill/>
          </a:ln>
        </p:spPr>
      </p:pic>
      <p:pic>
        <p:nvPicPr>
          <p:cNvPr id="200" name="BS00979_" descr=""/>
          <p:cNvPicPr/>
          <p:nvPr/>
        </p:nvPicPr>
        <p:blipFill>
          <a:blip r:embed="rId2"/>
          <a:stretch/>
        </p:blipFill>
        <p:spPr>
          <a:xfrm>
            <a:off x="7502400" y="228600"/>
            <a:ext cx="1641600" cy="175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If the bill passes both houses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57240" y="20570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if, 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if by chanc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, the president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signs it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n…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BS00823_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505320" cy="2986200"/>
          </a:xfrm>
          <a:prstGeom prst="rect">
            <a:avLst/>
          </a:prstGeom>
          <a:ln w="0">
            <a:noFill/>
          </a:ln>
        </p:spPr>
      </p:pic>
      <p:pic>
        <p:nvPicPr>
          <p:cNvPr id="204" name="BS00979_" descr=""/>
          <p:cNvPicPr/>
          <p:nvPr/>
        </p:nvPicPr>
        <p:blipFill>
          <a:blip r:embed="rId2"/>
          <a:stretch/>
        </p:blipFill>
        <p:spPr>
          <a:xfrm>
            <a:off x="7502400" y="228600"/>
            <a:ext cx="1641600" cy="1752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62120" y="56386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Oh boy oh boy oh bo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bd05378_" descr=""/>
          <p:cNvPicPr/>
          <p:nvPr/>
        </p:nvPicPr>
        <p:blipFill>
          <a:blip r:embed="rId3"/>
          <a:stretch/>
        </p:blipFill>
        <p:spPr>
          <a:xfrm>
            <a:off x="7391520" y="5410080"/>
            <a:ext cx="1527120" cy="927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hat is a bill?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ill is a written idea for a law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ill can be started in either house of Congress, except revenue bill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nce both houses must pass a bill, only 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3%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all bills become law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is a very long, involved process. 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h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it that w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BS00979_" descr=""/>
          <p:cNvPicPr/>
          <p:nvPr/>
        </p:nvPicPr>
        <p:blipFill>
          <a:blip r:embed="rId1"/>
          <a:stretch/>
        </p:blipFill>
        <p:spPr>
          <a:xfrm>
            <a:off x="7502400" y="228600"/>
            <a:ext cx="1641600" cy="175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Congratulations, Bill, you’re now a Law!</a:t>
            </a:r>
            <a:endParaRPr b="0" lang="en-US" sz="5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law" descr=""/>
          <p:cNvPicPr/>
          <p:nvPr/>
        </p:nvPicPr>
        <p:blipFill>
          <a:blip r:embed="rId1"/>
          <a:srcRect l="0" t="0" r="0" b="5739"/>
          <a:stretch/>
        </p:blipFill>
        <p:spPr>
          <a:xfrm>
            <a:off x="2133720" y="2590920"/>
            <a:ext cx="5105160" cy="3608280"/>
          </a:xfrm>
          <a:prstGeom prst="rect">
            <a:avLst/>
          </a:prstGeom>
          <a:ln w="0">
            <a:noFill/>
          </a:ln>
        </p:spPr>
      </p:pic>
      <p:pic>
        <p:nvPicPr>
          <p:cNvPr id="210" name="so01047_" descr=""/>
          <p:cNvPicPr/>
          <p:nvPr/>
        </p:nvPicPr>
        <p:blipFill>
          <a:blip r:embed="rId2"/>
          <a:stretch/>
        </p:blipFill>
        <p:spPr>
          <a:xfrm>
            <a:off x="6858000" y="1981080"/>
            <a:ext cx="1996920" cy="2590920"/>
          </a:xfrm>
          <a:prstGeom prst="rect">
            <a:avLst/>
          </a:prstGeom>
          <a:ln w="0">
            <a:noFill/>
          </a:ln>
        </p:spPr>
      </p:pic>
      <p:pic>
        <p:nvPicPr>
          <p:cNvPr id="211" name="so01047_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1996920" cy="2590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House of Origin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is introduc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ts number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ts a read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676520"/>
            <a:ext cx="4267080" cy="4876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1676520"/>
            <a:ext cx="3657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nly a member of Congress may submit a bill.  But any citizen can suggest a bill to him/h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BS00979_" descr=""/>
          <p:cNvPicPr/>
          <p:nvPr/>
        </p:nvPicPr>
        <p:blipFill>
          <a:blip r:embed="rId1"/>
          <a:stretch/>
        </p:blipFill>
        <p:spPr>
          <a:xfrm>
            <a:off x="1828800" y="4343400"/>
            <a:ext cx="1641600" cy="175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goes to committe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676520"/>
            <a:ext cx="4267080" cy="2057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905120"/>
            <a:ext cx="533520" cy="609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95280" y="3886200"/>
            <a:ext cx="45720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47242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4191120"/>
            <a:ext cx="4952880" cy="2057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505320"/>
            <a:ext cx="2743200" cy="914400"/>
          </a:xfrm>
          <a:prstGeom prst="rightArrow">
            <a:avLst>
              <a:gd name="adj1" fmla="val 50000"/>
              <a:gd name="adj2" fmla="val 75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45720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cause there is so much to do, the work of Congress is divided u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E01616_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1981080" cy="185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hat are some committees?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ropri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d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med Servi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b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eign Affai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dicia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962160" y="1447920"/>
            <a:ext cx="518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money is sp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oney is sp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ense, milita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rking conditions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lations with other countr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urts, impeach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Leaders of committees are very powerful members of Congress.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re the chairpersons?  Two key qualification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ember of majority party</a:t>
            </a: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eniority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j0197675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2765520" cy="28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goes to committe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76520"/>
            <a:ext cx="4267080" cy="2057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434340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is considered by a subcommitte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905120"/>
            <a:ext cx="533520" cy="609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295280" y="3886200"/>
            <a:ext cx="45720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47242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91120"/>
            <a:ext cx="4952880" cy="2057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4120" y="3505320"/>
            <a:ext cx="2743200" cy="914400"/>
          </a:xfrm>
          <a:prstGeom prst="rightArrow">
            <a:avLst>
              <a:gd name="adj1" fmla="val 50000"/>
              <a:gd name="adj2" fmla="val 75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45720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cause there is so much to do, the work of Congress is divided u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E01561_" descr=""/>
          <p:cNvPicPr/>
          <p:nvPr/>
        </p:nvPicPr>
        <p:blipFill>
          <a:blip r:embed="rId1"/>
          <a:stretch/>
        </p:blipFill>
        <p:spPr>
          <a:xfrm>
            <a:off x="6172200" y="4876920"/>
            <a:ext cx="2673360" cy="1774800"/>
          </a:xfrm>
          <a:prstGeom prst="rect">
            <a:avLst/>
          </a:prstGeom>
          <a:ln w="0">
            <a:noFill/>
          </a:ln>
        </p:spPr>
      </p:pic>
      <p:pic>
        <p:nvPicPr>
          <p:cNvPr id="138" name="PE01616_" descr=""/>
          <p:cNvPicPr/>
          <p:nvPr/>
        </p:nvPicPr>
        <p:blipFill>
          <a:blip r:embed="rId2"/>
          <a:stretch/>
        </p:blipFill>
        <p:spPr>
          <a:xfrm>
            <a:off x="3657600" y="457200"/>
            <a:ext cx="1981080" cy="185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hat happens in a subcommittee?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It is where it is investigated most thoroughly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is here where it lives or dies. 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is is the most critical sta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ill may be in subcommittee from 6 months to a full ye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j0311860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2514600" cy="232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90920" y="3429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267080"/>
            <a:ext cx="1371600" cy="914400"/>
          </a:xfrm>
          <a:prstGeom prst="rightArrow">
            <a:avLst>
              <a:gd name="adj1" fmla="val 50000"/>
              <a:gd name="adj2" fmla="val 37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3048120"/>
            <a:ext cx="2819520" cy="160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124080" y="129528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5335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es back to writer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4724280"/>
            <a:ext cx="2819520" cy="160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51055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5105520"/>
            <a:ext cx="609480" cy="68580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2057400"/>
            <a:ext cx="3276720" cy="426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13372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le committee vo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860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ull house for vot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57913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 on calend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3886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st be 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quoru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resent (majorit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j0286761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133720" cy="203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6:33:22Z</dcterms:created>
  <dc:creator>User</dc:creator>
  <dc:description/>
  <dc:language>en-US</dc:language>
  <cp:lastModifiedBy>User</cp:lastModifiedBy>
  <dcterms:modified xsi:type="dcterms:W3CDTF">2003-12-01T18:58:10Z</dcterms:modified>
  <cp:revision>42</cp:revision>
  <dc:subject/>
  <dc:title>How a Bill Becomes a Law</dc:title>
</cp:coreProperties>
</file>